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7733-58C2-4FB8-A51A-60BB80E0F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630C-6D5A-451E-A863-636EDF43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DC05-C5DC-42F2-B8A9-4A11C6E0D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24FD-D8E1-4731-A912-E06580716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1CBC-3896-40E6-95BB-F1195EEA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5231-9696-4D6C-A1D9-A6991C29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FD87-444F-4B34-94FD-9F4C25AA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1A43-80A0-4FEF-B48D-15D2B5BF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A8FC-0445-4F38-9C52-33419AAD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0068-6061-4D68-9095-9B3A02D8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73D7-7B32-4D7A-A4D1-C5937F0A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2ED2-6BB3-46C1-8466-FD7E2426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CC76-B5BD-4A84-8333-0B6A54F050B9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01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266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Minion"/>
              </a:rPr>
              <a:t>Worksplitproposal TPM E &lt;-&gt; TPM A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Minion"/>
              </a:rPr>
              <a:t>(Variantmanagement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62499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G PH TPM  B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3040" y="22860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Worksplit per Region and Timezone Compar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57200" y="6103800"/>
            <a:ext cx="514440" cy="144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564000" y="6110280"/>
            <a:ext cx="514440" cy="1382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124000" y="6110280"/>
            <a:ext cx="514440" cy="138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86320" y="6004080"/>
            <a:ext cx="117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most reason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11840" y="6064200"/>
            <a:ext cx="90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not possi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86960" y="6004080"/>
            <a:ext cx="66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ossi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6883200" cy="393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03040" y="22860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Possible Workspl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765000"/>
            <a:ext cx="391968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lternative 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PM Asia takes over additional responsibility for E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dditional necessary Resources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PM Europe keeps responsibilty for WE and LA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ecessary Resources: 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dvantages: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- more equal workspl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isadvantag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- max 5 hours common working h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- TMO, Orange, VF Consortia are present in WE </a:t>
            </a:r>
            <a:br>
              <a:rPr sz="1400"/>
            </a:b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  and EE =&gt; two different contacts (TPM Asia </a:t>
            </a:r>
            <a:br>
              <a:rPr sz="1400"/>
            </a:b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  and TPM Europe) for one country for the same </a:t>
            </a:r>
            <a:br>
              <a:rPr sz="1400"/>
            </a:b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  product: i. .e. 1 x Retail = EE, TMO = W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Remarks: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ROMs( Regional Operation Managers Sales) and Order Managers for EE are located in Muni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Employ Staff, Training and Know How Transfer needs some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56000" y="765000"/>
            <a:ext cx="39196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lternative I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Leave it as it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dvantages: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cesses and skills are in 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rfaces are def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unty specic requirements can be easily  </a:t>
            </a:r>
            <a:br>
              <a:rPr sz="1400"/>
            </a:b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  transfered to consortia 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p to 10 common working h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isadvantag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- Unequal workload between TPM Europe and As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Remarks: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ROMs( Regional Operation Managers Sales) and Order Managers for EE are located in Muni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052640"/>
            <a:ext cx="814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84720" y="692280"/>
            <a:ext cx="0" cy="53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2680" y="5932440"/>
            <a:ext cx="83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emark: These Alternatives are not relevant for GPM. GPM- Topics are Product rel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03040" y="22860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Common Working H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052640"/>
            <a:ext cx="4076640" cy="1936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3357720"/>
            <a:ext cx="4076640" cy="1417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Holger Asmussen</cp:lastModifiedBy>
  <dcterms:modified xsi:type="dcterms:W3CDTF">2006-03-28T12:46:58Z</dcterms:modified>
  <cp:revision>137</cp:revision>
  <dc:subject/>
  <dc:title>PowerPoint 簡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59298984</vt:r8>
  </property>
  <property fmtid="{D5CDD505-2E9C-101B-9397-08002B2CF9AE}" pid="3" name="_AuthorEmail">
    <vt:lpwstr>Brigitte.Flierl@BenQ.com</vt:lpwstr>
  </property>
  <property fmtid="{D5CDD505-2E9C-101B-9397-08002B2CF9AE}" pid="4" name="_AuthorEmailDisplayName">
    <vt:lpwstr>Brigitte Flierl</vt:lpwstr>
  </property>
  <property fmtid="{D5CDD505-2E9C-101B-9397-08002B2CF9AE}" pid="5" name="_EmailSubject">
    <vt:lpwstr>Folien/Infos zu Variantenaufteilung</vt:lpwstr>
  </property>
  <property fmtid="{D5CDD505-2E9C-101B-9397-08002B2CF9AE}" pid="6" name="_ReviewingToolsShownOnce">
    <vt:lpwstr/>
  </property>
</Properties>
</file>